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1A9AF-843E-4B0D-B2FA-C376D7953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774BC-A780-48C9-9211-B81A1E2C6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C3512-FA9C-4F3D-89EF-CF9F494B9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891C5-CC40-4900-AF37-BC4E53156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3BC48-8F76-4F84-8880-D429C0401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88B7F-815C-49D1-ABFD-D09D90DF0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514CA-BA1E-4812-AC75-F1EFC874E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3B057-3017-4E5E-AA85-C10BC8154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59C62-E282-48A3-9530-87341C956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1C40F-770E-4B24-9E3C-413501CBD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9EFA9-9FB1-499F-9FBF-705ABDAB7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AC81A-EE80-463C-AAA2-EDF76D01F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F7BAC-A901-483C-8266-2DC9D2130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E6E95-5EA8-4CA6-97F1-F0DCD32A9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7A3C4-6C9D-434E-B69E-ADEBFC214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53046-19FC-418B-8696-47D953C07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9C455-5289-4A09-9856-3239C83B5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858E2-3160-4E0E-9646-8EC10D175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BB5E5-479E-4CBD-B0B0-3E9CD6079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06707-7305-4B78-BFA2-C03CE65B8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E6F88-002F-4BE3-A816-7A3618211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033D2-C1F4-4ADB-B41C-FF534BA1F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62605-54CA-4B80-92EB-05DE341D6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06AF3-D292-440D-BE1C-89CE0066D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53D1D-D35C-403D-9721-235D4E482723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29EBA-8748-4CF8-A4A6-95555640B4EF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66"/>
                </a:solidFill>
                <a:latin typeface="Arial"/>
              </a:rPr>
              <a:t>第十二章  国际金融市场一体化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International financial Integra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6666"/>
                </a:solidFill>
                <a:latin typeface="Arial"/>
              </a:rPr>
              <a:t>第一节  国际金融市场一体化的涵义、原因及影响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一、国际金融市场一体化的涵义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各国金融市场从分散走向整体的过程与状态。包括三个层次的内涵：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1.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各国金融市场的关联链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e linkages between market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2.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各国之间的交易手数和交易量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e number and volume of transaction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3.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利率决定机制与利率趋同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e rate-setting mechanism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6666"/>
                </a:solidFill>
                <a:latin typeface="Arial"/>
              </a:rPr>
              <a:t>二、国际金融市场一体化的原因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1.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国际经济的发展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2.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技术进步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3.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金融自由化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4.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机构投资者投资需求变化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5.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国际货币体系变化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6.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金融创新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6666"/>
                </a:solidFill>
                <a:latin typeface="Arial"/>
              </a:rPr>
              <a:t>三、国际金融市场一体化的影响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（一）积极影响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1.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加快了金融信息传递，提高了金融市场效率；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2.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扩大了金融资产选择性，满足了各种金融需求；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3.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扩大了金融资产的流动性，提高了资本配置效率；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4.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促进国际贸易，调节国际收支。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（二）消极影响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1.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削弱了各国货币政策自主性，降低了政策效力；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2.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导致金融资产价格过度波动，增大风险；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3.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增加了金融市场脆弱性。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6666"/>
                </a:solidFill>
                <a:latin typeface="Arial"/>
              </a:rPr>
              <a:t>第二节  国际金融市场一体化的内容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一、金融市场关联链的形成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金融市场交易地理障碍的消除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2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国际金融市场中的资金清算系统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二、各类金融市场的一体化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国际货币市场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）国际外汇市场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）短期资金融通市场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2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国际资本市场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）国际债券市场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）国际股票市场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3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）中长期国际融资市场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3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国际金融衍生市场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三、国际金融市场资产价格的相关性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6666"/>
                </a:solidFill>
                <a:latin typeface="Arial"/>
              </a:rPr>
              <a:t>第三节  国际金融市场结构变化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一、国际金融市场的体制结构及变化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从体制上划分：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）传统国际金融市场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）新型国际金融市场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2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国际金融市场的特点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）地理分布多样性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）新型市场形成并迅速发展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二、国际金融市场的运行结构及变化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主金融市场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2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次金融市场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3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外围金融市场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05T07:49:12Z</dcterms:created>
  <dc:creator>MS User</dc:creator>
  <dc:description/>
  <dc:language>en-US</dc:language>
  <cp:lastModifiedBy>Dell</cp:lastModifiedBy>
  <dcterms:modified xsi:type="dcterms:W3CDTF">2021-08-23T22:51:07Z</dcterms:modified>
  <cp:revision>13</cp:revision>
  <dc:subject/>
  <dc:title>第七章  国际金融市场一体化</dc:title>
</cp:coreProperties>
</file>